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2B41-8556-4FD1-BB09-8718B1CC7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39E3F-44A4-4529-AE40-6E1CA2C9A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708D-2090-47CA-9D13-4ED3C36AF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1207-8510-413D-A100-75D2CB4DE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5D6A-0905-4735-A057-589F38EA8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1E06-693A-49D6-82C7-F0782AD57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5BE6-17E0-45AA-8E4A-1C427DD37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DB6E-F82F-4B45-875B-E56AE9A23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C970-F4DD-41B9-835B-0EBC5179B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B69D-AB32-46DB-A52A-C1E202EFC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D102-56FB-4E1D-B78E-49978575D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A423-867A-4340-A5F1-39B66057E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C872-9DD0-4FFB-B882-A150CF6BA4E8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7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Balance Sheet Information on a Work Shee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C21_blue_0709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10640" cy="4927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2C2A-0E82-42C7-B10A-220A96348B2D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ING OF A BALANCE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C21_blue_0710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381880" cy="2503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1889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78520" y="24433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75360" y="3032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4267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the name of the company on the first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63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the name of the report on the second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9928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the date of the report on the third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1B17-3B6A-4B6E-94DF-2268E5E24D7C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TS AND LIABILITI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TIONS OF A BALANCE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C21_blue_0711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8381880" cy="2276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754520" y="2484360"/>
            <a:ext cx="1787760" cy="411120"/>
            <a:chOff x="4754520" y="2484360"/>
            <a:chExt cx="1787760" cy="411120"/>
          </a:xfrm>
        </p:grpSpPr>
        <p:sp>
          <p:nvSpPr>
            <p:cNvPr id="106" name=""/>
            <p:cNvSpPr/>
            <p:nvPr/>
          </p:nvSpPr>
          <p:spPr>
            <a:xfrm>
              <a:off x="4754520" y="2484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1240" y="2489760"/>
              <a:ext cx="121104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iab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838080" y="2484360"/>
            <a:ext cx="1447920" cy="411120"/>
            <a:chOff x="838080" y="2484360"/>
            <a:chExt cx="1447920" cy="411120"/>
          </a:xfrm>
        </p:grpSpPr>
        <p:sp>
          <p:nvSpPr>
            <p:cNvPr id="109" name=""/>
            <p:cNvSpPr/>
            <p:nvPr/>
          </p:nvSpPr>
          <p:spPr>
            <a:xfrm>
              <a:off x="838080" y="2484360"/>
              <a:ext cx="41148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69880" y="2489760"/>
              <a:ext cx="81612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ss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572000" y="4267080"/>
            <a:ext cx="2406240" cy="411120"/>
            <a:chOff x="4572000" y="4267080"/>
            <a:chExt cx="2406240" cy="411120"/>
          </a:xfrm>
        </p:grpSpPr>
        <p:sp>
          <p:nvSpPr>
            <p:cNvPr id="112" name=""/>
            <p:cNvSpPr/>
            <p:nvPr/>
          </p:nvSpPr>
          <p:spPr>
            <a:xfrm>
              <a:off x="5165280" y="4272480"/>
              <a:ext cx="181296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otal Liab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67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28600" y="3297240"/>
            <a:ext cx="2280600" cy="2448000"/>
            <a:chOff x="228600" y="3297240"/>
            <a:chExt cx="2280600" cy="2448000"/>
          </a:xfrm>
        </p:grpSpPr>
        <p:grpSp>
          <p:nvGrpSpPr>
            <p:cNvPr id="115" name=""/>
            <p:cNvGrpSpPr/>
            <p:nvPr/>
          </p:nvGrpSpPr>
          <p:grpSpPr>
            <a:xfrm>
              <a:off x="304920" y="3297240"/>
              <a:ext cx="455400" cy="2265480"/>
              <a:chOff x="304920" y="3297240"/>
              <a:chExt cx="455400" cy="2265480"/>
            </a:xfrm>
          </p:grpSpPr>
          <p:sp>
            <p:nvSpPr>
              <p:cNvPr id="116" name=""/>
              <p:cNvSpPr/>
              <p:nvPr/>
            </p:nvSpPr>
            <p:spPr>
              <a:xfrm>
                <a:off x="531720" y="3297240"/>
                <a:ext cx="228600" cy="1828800"/>
              </a:xfrm>
              <a:custGeom>
                <a:avLst/>
                <a:gdLst/>
                <a:ahLst/>
                <a:rect l="l" t="t" r="r" b="b"/>
                <a:pathLst>
                  <a:path w="144" h="1152">
                    <a:moveTo>
                      <a:pt x="144" y="0"/>
                    </a:moveTo>
                    <a:lnTo>
                      <a:pt x="0" y="0"/>
                    </a:lnTo>
                    <a:lnTo>
                      <a:pt x="0" y="1152"/>
                    </a:lnTo>
                    <a:lnTo>
                      <a:pt x="144" y="115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920" y="4191120"/>
                <a:ext cx="228600" cy="1371600"/>
              </a:xfrm>
              <a:custGeom>
                <a:avLst/>
                <a:gdLst/>
                <a:ahLst/>
                <a:rect l="l" t="t" r="r" b="b"/>
                <a:pathLst>
                  <a:path w="144" h="864">
                    <a:moveTo>
                      <a:pt x="144" y="0"/>
                    </a:moveTo>
                    <a:lnTo>
                      <a:pt x="0" y="0"/>
                    </a:lnTo>
                    <a:lnTo>
                      <a:pt x="0" y="86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28600" y="5334120"/>
              <a:ext cx="2280600" cy="411120"/>
              <a:chOff x="228600" y="5334120"/>
              <a:chExt cx="2280600" cy="411120"/>
            </a:xfrm>
          </p:grpSpPr>
          <p:sp>
            <p:nvSpPr>
              <p:cNvPr id="119" name=""/>
              <p:cNvSpPr/>
              <p:nvPr/>
            </p:nvSpPr>
            <p:spPr>
              <a:xfrm>
                <a:off x="228600" y="533412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44200" y="5339520"/>
                <a:ext cx="166500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count title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2981160" y="3297240"/>
            <a:ext cx="2334960" cy="2916360"/>
            <a:chOff x="2981160" y="3297240"/>
            <a:chExt cx="2334960" cy="2916360"/>
          </a:xfrm>
        </p:grpSpPr>
        <p:grpSp>
          <p:nvGrpSpPr>
            <p:cNvPr id="122" name=""/>
            <p:cNvGrpSpPr/>
            <p:nvPr/>
          </p:nvGrpSpPr>
          <p:grpSpPr>
            <a:xfrm>
              <a:off x="3201840" y="3297240"/>
              <a:ext cx="455760" cy="2722680"/>
              <a:chOff x="3201840" y="3297240"/>
              <a:chExt cx="455760" cy="2722680"/>
            </a:xfrm>
          </p:grpSpPr>
          <p:sp>
            <p:nvSpPr>
              <p:cNvPr id="123" name=""/>
              <p:cNvSpPr/>
              <p:nvPr/>
            </p:nvSpPr>
            <p:spPr>
              <a:xfrm>
                <a:off x="3429000" y="3297240"/>
                <a:ext cx="228600" cy="1828800"/>
              </a:xfrm>
              <a:custGeom>
                <a:avLst/>
                <a:gdLst/>
                <a:ahLst/>
                <a:rect l="l" t="t" r="r" b="b"/>
                <a:pathLst>
                  <a:path w="144" h="1152">
                    <a:moveTo>
                      <a:pt x="144" y="0"/>
                    </a:moveTo>
                    <a:lnTo>
                      <a:pt x="0" y="0"/>
                    </a:lnTo>
                    <a:lnTo>
                      <a:pt x="0" y="1152"/>
                    </a:lnTo>
                    <a:lnTo>
                      <a:pt x="144" y="115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01840" y="4191120"/>
                <a:ext cx="228600" cy="1828800"/>
              </a:xfrm>
              <a:custGeom>
                <a:avLst/>
                <a:gdLst/>
                <a:ahLst/>
                <a:rect l="l" t="t" r="r" b="b"/>
                <a:pathLst>
                  <a:path w="144" h="864">
                    <a:moveTo>
                      <a:pt x="144" y="0"/>
                    </a:moveTo>
                    <a:lnTo>
                      <a:pt x="0" y="0"/>
                    </a:lnTo>
                    <a:lnTo>
                      <a:pt x="0" y="86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981160" y="5802480"/>
              <a:ext cx="2334960" cy="411120"/>
              <a:chOff x="2981160" y="5802480"/>
              <a:chExt cx="2334960" cy="411120"/>
            </a:xfrm>
          </p:grpSpPr>
          <p:sp>
            <p:nvSpPr>
              <p:cNvPr id="126" name=""/>
              <p:cNvSpPr/>
              <p:nvPr/>
            </p:nvSpPr>
            <p:spPr>
              <a:xfrm>
                <a:off x="2981160" y="580248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641760" y="5807880"/>
                <a:ext cx="167436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sset amou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5746680" y="3927600"/>
            <a:ext cx="1873440" cy="1436400"/>
            <a:chOff x="5746680" y="3927600"/>
            <a:chExt cx="1873440" cy="1436400"/>
          </a:xfrm>
        </p:grpSpPr>
        <p:sp>
          <p:nvSpPr>
            <p:cNvPr id="129" name=""/>
            <p:cNvSpPr/>
            <p:nvPr/>
          </p:nvSpPr>
          <p:spPr>
            <a:xfrm>
              <a:off x="7391520" y="3927600"/>
              <a:ext cx="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5746680" y="4952880"/>
              <a:ext cx="1873440" cy="411120"/>
              <a:chOff x="5746680" y="4952880"/>
              <a:chExt cx="1873440" cy="411120"/>
            </a:xfrm>
          </p:grpSpPr>
          <p:sp>
            <p:nvSpPr>
              <p:cNvPr id="131" name=""/>
              <p:cNvSpPr/>
              <p:nvPr/>
            </p:nvSpPr>
            <p:spPr>
              <a:xfrm>
                <a:off x="5746680" y="4958280"/>
                <a:ext cx="127656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ingle li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09000" y="495288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6294600" y="1371600"/>
            <a:ext cx="2598120" cy="2570040"/>
            <a:chOff x="6294600" y="1371600"/>
            <a:chExt cx="2598120" cy="2570040"/>
          </a:xfrm>
        </p:grpSpPr>
        <p:grpSp>
          <p:nvGrpSpPr>
            <p:cNvPr id="134" name=""/>
            <p:cNvGrpSpPr/>
            <p:nvPr/>
          </p:nvGrpSpPr>
          <p:grpSpPr>
            <a:xfrm>
              <a:off x="8381880" y="1676520"/>
              <a:ext cx="457200" cy="2265120"/>
              <a:chOff x="8381880" y="1676520"/>
              <a:chExt cx="457200" cy="2265120"/>
            </a:xfrm>
          </p:grpSpPr>
          <p:sp>
            <p:nvSpPr>
              <p:cNvPr id="135" name=""/>
              <p:cNvSpPr/>
              <p:nvPr/>
            </p:nvSpPr>
            <p:spPr>
              <a:xfrm>
                <a:off x="8381880" y="3332160"/>
                <a:ext cx="228600" cy="609480"/>
              </a:xfrm>
              <a:custGeom>
                <a:avLst/>
                <a:gdLst/>
                <a:ahLst/>
                <a:rect l="l" t="t" r="r" b="b"/>
                <a:pathLst>
                  <a:path w="144" h="384">
                    <a:moveTo>
                      <a:pt x="0" y="0"/>
                    </a:moveTo>
                    <a:lnTo>
                      <a:pt x="144" y="0"/>
                    </a:lnTo>
                    <a:lnTo>
                      <a:pt x="144" y="384"/>
                    </a:lnTo>
                    <a:lnTo>
                      <a:pt x="0" y="38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610480" y="1676520"/>
                <a:ext cx="228600" cy="1952640"/>
              </a:xfrm>
              <a:custGeom>
                <a:avLst/>
                <a:gdLst/>
                <a:ahLst/>
                <a:rect l="l" t="t" r="r" b="b"/>
                <a:pathLst>
                  <a:path w="144" h="960">
                    <a:moveTo>
                      <a:pt x="0" y="960"/>
                    </a:moveTo>
                    <a:lnTo>
                      <a:pt x="144" y="960"/>
                    </a:lnTo>
                    <a:lnTo>
                      <a:pt x="1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294600" y="1371600"/>
              <a:ext cx="2598120" cy="411120"/>
              <a:chOff x="6294600" y="1371600"/>
              <a:chExt cx="2598120" cy="411120"/>
            </a:xfrm>
          </p:grpSpPr>
          <p:sp>
            <p:nvSpPr>
              <p:cNvPr id="138" name=""/>
              <p:cNvSpPr/>
              <p:nvPr/>
            </p:nvSpPr>
            <p:spPr>
              <a:xfrm>
                <a:off x="8481960" y="1371600"/>
                <a:ext cx="41076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94600" y="1377000"/>
                <a:ext cx="198360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ability amou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5380560" y="1927080"/>
            <a:ext cx="2217240" cy="2014560"/>
            <a:chOff x="5380560" y="1927080"/>
            <a:chExt cx="2217240" cy="2014560"/>
          </a:xfrm>
        </p:grpSpPr>
        <p:grpSp>
          <p:nvGrpSpPr>
            <p:cNvPr id="141" name=""/>
            <p:cNvGrpSpPr/>
            <p:nvPr/>
          </p:nvGrpSpPr>
          <p:grpSpPr>
            <a:xfrm>
              <a:off x="6927840" y="2104920"/>
              <a:ext cx="463680" cy="1836720"/>
              <a:chOff x="6927840" y="2104920"/>
              <a:chExt cx="463680" cy="1836720"/>
            </a:xfrm>
          </p:grpSpPr>
          <p:sp>
            <p:nvSpPr>
              <p:cNvPr id="142" name=""/>
              <p:cNvSpPr/>
              <p:nvPr/>
            </p:nvSpPr>
            <p:spPr>
              <a:xfrm>
                <a:off x="6927840" y="3332160"/>
                <a:ext cx="228600" cy="609480"/>
              </a:xfrm>
              <a:custGeom>
                <a:avLst/>
                <a:gdLst/>
                <a:ahLst/>
                <a:rect l="l" t="t" r="r" b="b"/>
                <a:pathLst>
                  <a:path w="144" h="384">
                    <a:moveTo>
                      <a:pt x="0" y="0"/>
                    </a:moveTo>
                    <a:lnTo>
                      <a:pt x="144" y="0"/>
                    </a:lnTo>
                    <a:lnTo>
                      <a:pt x="144" y="384"/>
                    </a:lnTo>
                    <a:lnTo>
                      <a:pt x="0" y="38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62920" y="2104920"/>
                <a:ext cx="228600" cy="1524240"/>
              </a:xfrm>
              <a:custGeom>
                <a:avLst/>
                <a:gdLst/>
                <a:ahLst/>
                <a:rect l="l" t="t" r="r" b="b"/>
                <a:pathLst>
                  <a:path w="144" h="960">
                    <a:moveTo>
                      <a:pt x="0" y="960"/>
                    </a:moveTo>
                    <a:lnTo>
                      <a:pt x="144" y="960"/>
                    </a:lnTo>
                    <a:lnTo>
                      <a:pt x="1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380560" y="1927080"/>
              <a:ext cx="2217240" cy="411480"/>
              <a:chOff x="5380560" y="1927080"/>
              <a:chExt cx="2217240" cy="411480"/>
            </a:xfrm>
          </p:grpSpPr>
          <p:sp>
            <p:nvSpPr>
              <p:cNvPr id="145" name=""/>
              <p:cNvSpPr/>
              <p:nvPr/>
            </p:nvSpPr>
            <p:spPr>
              <a:xfrm>
                <a:off x="7186680" y="1927080"/>
                <a:ext cx="411120" cy="411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80560" y="1932480"/>
                <a:ext cx="160092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count tit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5736240" y="4191120"/>
            <a:ext cx="2586600" cy="1782720"/>
            <a:chOff x="5736240" y="4191120"/>
            <a:chExt cx="2586600" cy="1782720"/>
          </a:xfrm>
        </p:grpSpPr>
        <p:sp>
          <p:nvSpPr>
            <p:cNvPr id="148" name=""/>
            <p:cNvSpPr/>
            <p:nvPr/>
          </p:nvSpPr>
          <p:spPr>
            <a:xfrm>
              <a:off x="8115120" y="41911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736240" y="5562720"/>
              <a:ext cx="2586600" cy="411120"/>
              <a:chOff x="5736240" y="5562720"/>
              <a:chExt cx="2586600" cy="411120"/>
            </a:xfrm>
          </p:grpSpPr>
          <p:sp>
            <p:nvSpPr>
              <p:cNvPr id="150" name=""/>
              <p:cNvSpPr/>
              <p:nvPr/>
            </p:nvSpPr>
            <p:spPr>
              <a:xfrm>
                <a:off x="5736240" y="5568120"/>
                <a:ext cx="200196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otal of liabiliti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912080" y="5562720"/>
                <a:ext cx="41076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04407-34C9-4732-A982-151F5F98D839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’S EQUITY SECTION OF A BALANCE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C21_blue_071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7924680" cy="3314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343400" y="4495680"/>
            <a:ext cx="2463840" cy="710280"/>
            <a:chOff x="4343400" y="4495680"/>
            <a:chExt cx="2463840" cy="710280"/>
          </a:xfrm>
        </p:grpSpPr>
        <p:sp>
          <p:nvSpPr>
            <p:cNvPr id="156" name=""/>
            <p:cNvSpPr/>
            <p:nvPr/>
          </p:nvSpPr>
          <p:spPr>
            <a:xfrm>
              <a:off x="4343400" y="4495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80600" y="4502160"/>
              <a:ext cx="1826640" cy="703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otal Liab. and </a:t>
              </a:r>
              <a:br>
                <a:rPr sz="2000"/>
              </a:b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wner’s Eq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04920" y="4495680"/>
            <a:ext cx="2083680" cy="411120"/>
            <a:chOff x="304920" y="4495680"/>
            <a:chExt cx="2083680" cy="411120"/>
          </a:xfrm>
        </p:grpSpPr>
        <p:sp>
          <p:nvSpPr>
            <p:cNvPr id="159" name=""/>
            <p:cNvSpPr/>
            <p:nvPr/>
          </p:nvSpPr>
          <p:spPr>
            <a:xfrm>
              <a:off x="304920" y="4495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70560" y="4503600"/>
              <a:ext cx="141804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otal Ass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04920" y="1371600"/>
            <a:ext cx="4647960" cy="2209680"/>
            <a:chOff x="304920" y="1371600"/>
            <a:chExt cx="4647960" cy="2209680"/>
          </a:xfrm>
        </p:grpSpPr>
        <p:sp>
          <p:nvSpPr>
            <p:cNvPr id="162" name=""/>
            <p:cNvSpPr/>
            <p:nvPr/>
          </p:nvSpPr>
          <p:spPr>
            <a:xfrm>
              <a:off x="2370240" y="1523880"/>
              <a:ext cx="2582640" cy="2057400"/>
            </a:xfrm>
            <a:custGeom>
              <a:avLst/>
              <a:gdLst/>
              <a:ahLst/>
              <a:rect l="l" t="t" r="r" b="b"/>
              <a:pathLst>
                <a:path w="1680" h="1440">
                  <a:moveTo>
                    <a:pt x="1680" y="1440"/>
                  </a:moveTo>
                  <a:lnTo>
                    <a:pt x="1296" y="1440"/>
                  </a:lnTo>
                  <a:lnTo>
                    <a:pt x="129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304920" y="1371600"/>
              <a:ext cx="2423520" cy="411120"/>
              <a:chOff x="304920" y="1371600"/>
              <a:chExt cx="2423520" cy="411120"/>
            </a:xfrm>
          </p:grpSpPr>
          <p:sp>
            <p:nvSpPr>
              <p:cNvPr id="164" name=""/>
              <p:cNvSpPr/>
              <p:nvPr/>
            </p:nvSpPr>
            <p:spPr>
              <a:xfrm>
                <a:off x="304920" y="137160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41400" y="1378080"/>
                <a:ext cx="178704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wner’s Equ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04920" y="1913040"/>
            <a:ext cx="3962160" cy="1917720"/>
            <a:chOff x="304920" y="1913040"/>
            <a:chExt cx="3962160" cy="1917720"/>
          </a:xfrm>
        </p:grpSpPr>
        <p:sp>
          <p:nvSpPr>
            <p:cNvPr id="167" name=""/>
            <p:cNvSpPr/>
            <p:nvPr/>
          </p:nvSpPr>
          <p:spPr>
            <a:xfrm>
              <a:off x="1503360" y="2133720"/>
              <a:ext cx="2763720" cy="1697040"/>
            </a:xfrm>
            <a:custGeom>
              <a:avLst/>
              <a:gdLst/>
              <a:ahLst/>
              <a:rect l="l" t="t" r="r" b="b"/>
              <a:pathLst>
                <a:path w="1539" h="1178">
                  <a:moveTo>
                    <a:pt x="1539" y="1178"/>
                  </a:moveTo>
                  <a:lnTo>
                    <a:pt x="1013" y="1178"/>
                  </a:lnTo>
                  <a:lnTo>
                    <a:pt x="1013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04920" y="1913040"/>
              <a:ext cx="2185200" cy="411120"/>
              <a:chOff x="304920" y="1913040"/>
              <a:chExt cx="2185200" cy="41112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191304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24120" y="1920960"/>
                <a:ext cx="156600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count titl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6564240" y="1951200"/>
            <a:ext cx="2351160" cy="1914480"/>
            <a:chOff x="6564240" y="1951200"/>
            <a:chExt cx="2351160" cy="1914480"/>
          </a:xfrm>
        </p:grpSpPr>
        <p:sp>
          <p:nvSpPr>
            <p:cNvPr id="172" name=""/>
            <p:cNvSpPr/>
            <p:nvPr/>
          </p:nvSpPr>
          <p:spPr>
            <a:xfrm>
              <a:off x="8077320" y="2189160"/>
              <a:ext cx="685800" cy="1676520"/>
            </a:xfrm>
            <a:custGeom>
              <a:avLst/>
              <a:gdLst/>
              <a:ahLst/>
              <a:rect l="l" t="t" r="r" b="b"/>
              <a:pathLst>
                <a:path w="144" h="1152">
                  <a:moveTo>
                    <a:pt x="0" y="1152"/>
                  </a:moveTo>
                  <a:lnTo>
                    <a:pt x="144" y="1152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6564240" y="1951200"/>
              <a:ext cx="2351160" cy="411120"/>
              <a:chOff x="6564240" y="1951200"/>
              <a:chExt cx="2351160" cy="411120"/>
            </a:xfrm>
          </p:grpSpPr>
          <p:sp>
            <p:nvSpPr>
              <p:cNvPr id="174" name=""/>
              <p:cNvSpPr/>
              <p:nvPr/>
            </p:nvSpPr>
            <p:spPr>
              <a:xfrm>
                <a:off x="8504280" y="195120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64240" y="1957320"/>
                <a:ext cx="174276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apital amou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5486400" y="1417680"/>
            <a:ext cx="1901520" cy="2741400"/>
            <a:chOff x="5486400" y="1417680"/>
            <a:chExt cx="1901520" cy="2741400"/>
          </a:xfrm>
        </p:grpSpPr>
        <p:sp>
          <p:nvSpPr>
            <p:cNvPr id="177" name=""/>
            <p:cNvSpPr/>
            <p:nvPr/>
          </p:nvSpPr>
          <p:spPr>
            <a:xfrm>
              <a:off x="5715000" y="1600200"/>
              <a:ext cx="1389240" cy="255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486400" y="1417680"/>
              <a:ext cx="1901520" cy="411120"/>
              <a:chOff x="5486400" y="1417680"/>
              <a:chExt cx="1901520" cy="411120"/>
            </a:xfrm>
          </p:grpSpPr>
          <p:sp>
            <p:nvSpPr>
              <p:cNvPr id="179" name=""/>
              <p:cNvSpPr/>
              <p:nvPr/>
            </p:nvSpPr>
            <p:spPr>
              <a:xfrm>
                <a:off x="5486400" y="141768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11360" y="1425600"/>
                <a:ext cx="127656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ingle li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700560" y="3124080"/>
            <a:ext cx="2652120" cy="1218960"/>
            <a:chOff x="700560" y="3124080"/>
            <a:chExt cx="2652120" cy="1218960"/>
          </a:xfrm>
        </p:grpSpPr>
        <p:sp>
          <p:nvSpPr>
            <p:cNvPr id="182" name=""/>
            <p:cNvSpPr/>
            <p:nvPr/>
          </p:nvSpPr>
          <p:spPr>
            <a:xfrm flipV="1">
              <a:off x="2819520" y="3276000"/>
              <a:ext cx="533160" cy="1066680"/>
            </a:xfrm>
            <a:custGeom>
              <a:avLst/>
              <a:gdLst/>
              <a:ahLst/>
              <a:rect l="l" t="t" r="r" b="b"/>
              <a:pathLst>
                <a:path w="336" h="672">
                  <a:moveTo>
                    <a:pt x="336" y="0"/>
                  </a:moveTo>
                  <a:lnTo>
                    <a:pt x="0" y="0"/>
                  </a:lnTo>
                  <a:lnTo>
                    <a:pt x="0" y="6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700560" y="3124080"/>
              <a:ext cx="2270880" cy="411120"/>
              <a:chOff x="700560" y="3124080"/>
              <a:chExt cx="2270880" cy="411120"/>
            </a:xfrm>
          </p:grpSpPr>
          <p:sp>
            <p:nvSpPr>
              <p:cNvPr id="184" name=""/>
              <p:cNvSpPr/>
              <p:nvPr/>
            </p:nvSpPr>
            <p:spPr>
              <a:xfrm>
                <a:off x="2560320" y="312408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00560" y="3130560"/>
                <a:ext cx="165132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otal of asse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4068720" y="4343400"/>
            <a:ext cx="4846680" cy="1981080"/>
            <a:chOff x="4068720" y="4343400"/>
            <a:chExt cx="4846680" cy="1981080"/>
          </a:xfrm>
        </p:grpSpPr>
        <p:sp>
          <p:nvSpPr>
            <p:cNvPr id="187" name=""/>
            <p:cNvSpPr/>
            <p:nvPr/>
          </p:nvSpPr>
          <p:spPr>
            <a:xfrm>
              <a:off x="8077320" y="4343400"/>
              <a:ext cx="685800" cy="1736640"/>
            </a:xfrm>
            <a:custGeom>
              <a:avLst/>
              <a:gdLst/>
              <a:ahLst/>
              <a:rect l="l" t="t" r="r" b="b"/>
              <a:pathLst>
                <a:path w="192" h="960">
                  <a:moveTo>
                    <a:pt x="0" y="0"/>
                  </a:moveTo>
                  <a:lnTo>
                    <a:pt x="192" y="0"/>
                  </a:lnTo>
                  <a:lnTo>
                    <a:pt x="192" y="9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068720" y="5913360"/>
              <a:ext cx="4846680" cy="411120"/>
              <a:chOff x="4068720" y="5913360"/>
              <a:chExt cx="4846680" cy="411120"/>
            </a:xfrm>
          </p:grpSpPr>
          <p:sp>
            <p:nvSpPr>
              <p:cNvPr id="189" name=""/>
              <p:cNvSpPr/>
              <p:nvPr/>
            </p:nvSpPr>
            <p:spPr>
              <a:xfrm>
                <a:off x="8504280" y="591336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068720" y="5919840"/>
                <a:ext cx="420696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otal of Liabilities and Owner’s Equ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646640" y="4495680"/>
            <a:ext cx="5897160" cy="1249560"/>
            <a:chOff x="1646640" y="4495680"/>
            <a:chExt cx="5897160" cy="1249560"/>
          </a:xfrm>
        </p:grpSpPr>
        <p:sp>
          <p:nvSpPr>
            <p:cNvPr id="192" name=""/>
            <p:cNvSpPr/>
            <p:nvPr/>
          </p:nvSpPr>
          <p:spPr>
            <a:xfrm>
              <a:off x="3795840" y="4495680"/>
              <a:ext cx="3747960" cy="1067040"/>
            </a:xfrm>
            <a:custGeom>
              <a:avLst/>
              <a:gdLst/>
              <a:ahLst/>
              <a:rect l="l" t="t" r="r" b="b"/>
              <a:pathLst>
                <a:path w="2448" h="624">
                  <a:moveTo>
                    <a:pt x="0" y="0"/>
                  </a:moveTo>
                  <a:lnTo>
                    <a:pt x="0" y="624"/>
                  </a:lnTo>
                  <a:lnTo>
                    <a:pt x="2448" y="624"/>
                  </a:lnTo>
                  <a:lnTo>
                    <a:pt x="244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646640" y="5334120"/>
              <a:ext cx="2376000" cy="411120"/>
              <a:chOff x="1646640" y="5334120"/>
              <a:chExt cx="2376000" cy="411120"/>
            </a:xfrm>
          </p:grpSpPr>
          <p:sp>
            <p:nvSpPr>
              <p:cNvPr id="194" name=""/>
              <p:cNvSpPr/>
              <p:nvPr/>
            </p:nvSpPr>
            <p:spPr>
              <a:xfrm>
                <a:off x="3611520" y="533412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646640" y="5340240"/>
                <a:ext cx="172908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mpare tota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6172200" y="5334120"/>
            <a:ext cx="2113920" cy="411120"/>
            <a:chOff x="6172200" y="5334120"/>
            <a:chExt cx="2113920" cy="411120"/>
          </a:xfrm>
        </p:grpSpPr>
        <p:sp>
          <p:nvSpPr>
            <p:cNvPr id="197" name=""/>
            <p:cNvSpPr/>
            <p:nvPr/>
          </p:nvSpPr>
          <p:spPr>
            <a:xfrm>
              <a:off x="6172200" y="53341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10120" y="5340240"/>
              <a:ext cx="147600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uble l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1C48-574E-42C3-AC32-943414EFBC1A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’S EQUITY REPORTED IN DETAIL ON A BALANCE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C21_blue_0715" descr=""/>
          <p:cNvPicPr/>
          <p:nvPr/>
        </p:nvPicPr>
        <p:blipFill>
          <a:blip r:embed="rId1"/>
          <a:srcRect l="0" t="0" r="0" b="28070"/>
          <a:stretch/>
        </p:blipFill>
        <p:spPr>
          <a:xfrm>
            <a:off x="990720" y="3152880"/>
            <a:ext cx="7162560" cy="1960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931480" y="2558880"/>
            <a:ext cx="3499560" cy="1175040"/>
            <a:chOff x="2931480" y="2558880"/>
            <a:chExt cx="3499560" cy="1175040"/>
          </a:xfrm>
        </p:grpSpPr>
        <p:sp>
          <p:nvSpPr>
            <p:cNvPr id="203" name=""/>
            <p:cNvSpPr/>
            <p:nvPr/>
          </p:nvSpPr>
          <p:spPr>
            <a:xfrm>
              <a:off x="6227640" y="28195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931480" y="2558880"/>
              <a:ext cx="3499560" cy="411480"/>
              <a:chOff x="2931480" y="2558880"/>
              <a:chExt cx="3499560" cy="411480"/>
            </a:xfrm>
          </p:grpSpPr>
          <p:sp>
            <p:nvSpPr>
              <p:cNvPr id="205" name=""/>
              <p:cNvSpPr/>
              <p:nvPr/>
            </p:nvSpPr>
            <p:spPr>
              <a:xfrm>
                <a:off x="6019920" y="2558880"/>
                <a:ext cx="411120" cy="411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31480" y="2558880"/>
                <a:ext cx="281268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eginning capital amou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6314040" y="1965240"/>
            <a:ext cx="1839240" cy="2378160"/>
            <a:chOff x="6314040" y="1965240"/>
            <a:chExt cx="1839240" cy="2378160"/>
          </a:xfrm>
        </p:grpSpPr>
        <p:sp>
          <p:nvSpPr>
            <p:cNvPr id="208" name=""/>
            <p:cNvSpPr/>
            <p:nvPr/>
          </p:nvSpPr>
          <p:spPr>
            <a:xfrm>
              <a:off x="6781680" y="2209680"/>
              <a:ext cx="1177920" cy="2133720"/>
            </a:xfrm>
            <a:custGeom>
              <a:avLst/>
              <a:gdLst/>
              <a:ahLst/>
              <a:rect l="l" t="t" r="r" b="b"/>
              <a:pathLst>
                <a:path w="816" h="1344">
                  <a:moveTo>
                    <a:pt x="0" y="1344"/>
                  </a:moveTo>
                  <a:lnTo>
                    <a:pt x="816" y="1344"/>
                  </a:lnTo>
                  <a:lnTo>
                    <a:pt x="8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314040" y="1965240"/>
              <a:ext cx="1839240" cy="411120"/>
              <a:chOff x="6314040" y="1965240"/>
              <a:chExt cx="1839240" cy="411120"/>
            </a:xfrm>
          </p:grpSpPr>
          <p:sp>
            <p:nvSpPr>
              <p:cNvPr id="210" name=""/>
              <p:cNvSpPr/>
              <p:nvPr/>
            </p:nvSpPr>
            <p:spPr>
              <a:xfrm>
                <a:off x="7742160" y="196524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14040" y="1965240"/>
                <a:ext cx="127044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iffere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"/>
          <p:cNvGrpSpPr/>
          <p:nvPr/>
        </p:nvGrpSpPr>
        <p:grpSpPr>
          <a:xfrm>
            <a:off x="5749560" y="1371600"/>
            <a:ext cx="3175200" cy="3200400"/>
            <a:chOff x="5749560" y="1371600"/>
            <a:chExt cx="3175200" cy="3200400"/>
          </a:xfrm>
        </p:grpSpPr>
        <p:sp>
          <p:nvSpPr>
            <p:cNvPr id="213" name=""/>
            <p:cNvSpPr/>
            <p:nvPr/>
          </p:nvSpPr>
          <p:spPr>
            <a:xfrm>
              <a:off x="8001000" y="1600200"/>
              <a:ext cx="741240" cy="2971800"/>
            </a:xfrm>
            <a:custGeom>
              <a:avLst/>
              <a:gdLst/>
              <a:ahLst/>
              <a:rect l="l" t="t" r="r" b="b"/>
              <a:pathLst>
                <a:path w="672" h="1872">
                  <a:moveTo>
                    <a:pt x="0" y="1872"/>
                  </a:moveTo>
                  <a:lnTo>
                    <a:pt x="672" y="1872"/>
                  </a:lnTo>
                  <a:lnTo>
                    <a:pt x="6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5749560" y="1371600"/>
              <a:ext cx="3175200" cy="411120"/>
              <a:chOff x="5749560" y="1371600"/>
              <a:chExt cx="3175200" cy="411120"/>
            </a:xfrm>
          </p:grpSpPr>
          <p:sp>
            <p:nvSpPr>
              <p:cNvPr id="215" name=""/>
              <p:cNvSpPr/>
              <p:nvPr/>
            </p:nvSpPr>
            <p:spPr>
              <a:xfrm>
                <a:off x="8513640" y="137160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49560" y="1371600"/>
                <a:ext cx="252936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urrent capital amou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762120" y="1965240"/>
            <a:ext cx="2559600" cy="1920960"/>
            <a:chOff x="762120" y="1965240"/>
            <a:chExt cx="2559600" cy="1920960"/>
          </a:xfrm>
        </p:grpSpPr>
        <p:sp>
          <p:nvSpPr>
            <p:cNvPr id="218" name=""/>
            <p:cNvSpPr/>
            <p:nvPr/>
          </p:nvSpPr>
          <p:spPr>
            <a:xfrm>
              <a:off x="973080" y="2362320"/>
              <a:ext cx="246240" cy="1523880"/>
            </a:xfrm>
            <a:custGeom>
              <a:avLst/>
              <a:gdLst/>
              <a:ahLst/>
              <a:rect l="l" t="t" r="r" b="b"/>
              <a:pathLst>
                <a:path w="528" h="1392">
                  <a:moveTo>
                    <a:pt x="0" y="0"/>
                  </a:moveTo>
                  <a:lnTo>
                    <a:pt x="0" y="1392"/>
                  </a:lnTo>
                  <a:lnTo>
                    <a:pt x="528" y="13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762120" y="1965240"/>
              <a:ext cx="2559600" cy="411120"/>
              <a:chOff x="762120" y="1965240"/>
              <a:chExt cx="2559600" cy="411120"/>
            </a:xfrm>
          </p:grpSpPr>
          <p:sp>
            <p:nvSpPr>
              <p:cNvPr id="220" name=""/>
              <p:cNvSpPr/>
              <p:nvPr/>
            </p:nvSpPr>
            <p:spPr>
              <a:xfrm>
                <a:off x="762120" y="1965240"/>
                <a:ext cx="41076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38120" y="1965240"/>
                <a:ext cx="198360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eginning capit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304920" y="1371600"/>
            <a:ext cx="1900080" cy="2743200"/>
            <a:chOff x="304920" y="1371600"/>
            <a:chExt cx="1900080" cy="2743200"/>
          </a:xfrm>
        </p:grpSpPr>
        <p:sp>
          <p:nvSpPr>
            <p:cNvPr id="223" name=""/>
            <p:cNvSpPr/>
            <p:nvPr/>
          </p:nvSpPr>
          <p:spPr>
            <a:xfrm>
              <a:off x="533520" y="1600200"/>
              <a:ext cx="685800" cy="2514600"/>
            </a:xfrm>
            <a:custGeom>
              <a:avLst/>
              <a:gdLst/>
              <a:ahLst/>
              <a:rect l="l" t="t" r="r" b="b"/>
              <a:pathLst>
                <a:path w="528" h="1392">
                  <a:moveTo>
                    <a:pt x="0" y="0"/>
                  </a:moveTo>
                  <a:lnTo>
                    <a:pt x="0" y="1392"/>
                  </a:lnTo>
                  <a:lnTo>
                    <a:pt x="528" y="13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304920" y="1371600"/>
              <a:ext cx="1900080" cy="411120"/>
              <a:chOff x="304920" y="1371600"/>
              <a:chExt cx="1900080" cy="411120"/>
            </a:xfrm>
          </p:grpSpPr>
          <p:sp>
            <p:nvSpPr>
              <p:cNvPr id="225" name=""/>
              <p:cNvSpPr/>
              <p:nvPr/>
            </p:nvSpPr>
            <p:spPr>
              <a:xfrm>
                <a:off x="304920" y="137160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56800" y="1371600"/>
                <a:ext cx="134820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et Inco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304920" y="4343400"/>
            <a:ext cx="1581120" cy="1960920"/>
            <a:chOff x="304920" y="4343400"/>
            <a:chExt cx="1581120" cy="1960920"/>
          </a:xfrm>
        </p:grpSpPr>
        <p:sp>
          <p:nvSpPr>
            <p:cNvPr id="228" name=""/>
            <p:cNvSpPr/>
            <p:nvPr/>
          </p:nvSpPr>
          <p:spPr>
            <a:xfrm>
              <a:off x="533520" y="4343400"/>
              <a:ext cx="685800" cy="1752480"/>
            </a:xfrm>
            <a:custGeom>
              <a:avLst/>
              <a:gdLst/>
              <a:ahLst/>
              <a:rect l="l" t="t" r="r" b="b"/>
              <a:pathLst>
                <a:path w="576" h="1104">
                  <a:moveTo>
                    <a:pt x="576" y="0"/>
                  </a:moveTo>
                  <a:lnTo>
                    <a:pt x="0" y="0"/>
                  </a:lnTo>
                  <a:lnTo>
                    <a:pt x="0" y="1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304920" y="5891040"/>
              <a:ext cx="1581120" cy="413280"/>
              <a:chOff x="304920" y="5891040"/>
              <a:chExt cx="1581120" cy="413280"/>
            </a:xfrm>
          </p:grpSpPr>
          <p:sp>
            <p:nvSpPr>
              <p:cNvPr id="230" name=""/>
              <p:cNvSpPr/>
              <p:nvPr/>
            </p:nvSpPr>
            <p:spPr>
              <a:xfrm>
                <a:off x="304920" y="5891040"/>
                <a:ext cx="411120" cy="411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12160" y="5905440"/>
                <a:ext cx="107388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raw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762120" y="4572000"/>
            <a:ext cx="2210400" cy="1122480"/>
            <a:chOff x="762120" y="4572000"/>
            <a:chExt cx="2210400" cy="1122480"/>
          </a:xfrm>
        </p:grpSpPr>
        <p:sp>
          <p:nvSpPr>
            <p:cNvPr id="233" name=""/>
            <p:cNvSpPr/>
            <p:nvPr/>
          </p:nvSpPr>
          <p:spPr>
            <a:xfrm>
              <a:off x="973080" y="4572000"/>
              <a:ext cx="246240" cy="914400"/>
            </a:xfrm>
            <a:custGeom>
              <a:avLst/>
              <a:gdLst/>
              <a:ahLst/>
              <a:rect l="l" t="t" r="r" b="b"/>
              <a:pathLst>
                <a:path w="576" h="1104">
                  <a:moveTo>
                    <a:pt x="576" y="0"/>
                  </a:moveTo>
                  <a:lnTo>
                    <a:pt x="0" y="0"/>
                  </a:lnTo>
                  <a:lnTo>
                    <a:pt x="0" y="1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762120" y="5283360"/>
              <a:ext cx="2210400" cy="411120"/>
              <a:chOff x="762120" y="5283360"/>
              <a:chExt cx="2210400" cy="411120"/>
            </a:xfrm>
          </p:grpSpPr>
          <p:sp>
            <p:nvSpPr>
              <p:cNvPr id="235" name=""/>
              <p:cNvSpPr/>
              <p:nvPr/>
            </p:nvSpPr>
            <p:spPr>
              <a:xfrm>
                <a:off x="1313640" y="5283360"/>
                <a:ext cx="165888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nding capit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62120" y="528336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3352680" y="4890960"/>
            <a:ext cx="4568400" cy="1413360"/>
            <a:chOff x="3352680" y="4890960"/>
            <a:chExt cx="4568400" cy="1413360"/>
          </a:xfrm>
        </p:grpSpPr>
        <p:sp>
          <p:nvSpPr>
            <p:cNvPr id="238" name=""/>
            <p:cNvSpPr/>
            <p:nvPr/>
          </p:nvSpPr>
          <p:spPr>
            <a:xfrm>
              <a:off x="3581280" y="489096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352680" y="5891040"/>
              <a:ext cx="4568400" cy="413280"/>
              <a:chOff x="3352680" y="5891040"/>
              <a:chExt cx="4568400" cy="413280"/>
            </a:xfrm>
          </p:grpSpPr>
          <p:sp>
            <p:nvSpPr>
              <p:cNvPr id="240" name=""/>
              <p:cNvSpPr/>
              <p:nvPr/>
            </p:nvSpPr>
            <p:spPr>
              <a:xfrm>
                <a:off x="3352680" y="5891040"/>
                <a:ext cx="411120" cy="411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989880" y="5905440"/>
                <a:ext cx="393120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otal Liabilities and Owner’s Equ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" name=""/>
          <p:cNvGrpSpPr/>
          <p:nvPr/>
        </p:nvGrpSpPr>
        <p:grpSpPr>
          <a:xfrm>
            <a:off x="5068800" y="4460760"/>
            <a:ext cx="1832040" cy="1233720"/>
            <a:chOff x="5068800" y="4460760"/>
            <a:chExt cx="1832040" cy="1233720"/>
          </a:xfrm>
        </p:grpSpPr>
        <p:sp>
          <p:nvSpPr>
            <p:cNvPr id="243" name=""/>
            <p:cNvSpPr/>
            <p:nvPr/>
          </p:nvSpPr>
          <p:spPr>
            <a:xfrm>
              <a:off x="5257800" y="446076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068800" y="5283360"/>
              <a:ext cx="1832040" cy="411120"/>
              <a:chOff x="5068800" y="5283360"/>
              <a:chExt cx="1832040" cy="411120"/>
            </a:xfrm>
          </p:grpSpPr>
          <p:sp>
            <p:nvSpPr>
              <p:cNvPr id="245" name=""/>
              <p:cNvSpPr/>
              <p:nvPr/>
            </p:nvSpPr>
            <p:spPr>
              <a:xfrm>
                <a:off x="5068800" y="528336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624280" y="5283360"/>
                <a:ext cx="127656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ingle li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7D77-1BFC-4A9D-A05D-3413C81AEFEA}" type="slidenum">
              <a:t>6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04Z</dcterms:created>
  <dc:creator>M. C. McLaughlin</dc:creator>
  <dc:description/>
  <dc:language>en-US</dc:language>
  <cp:lastModifiedBy>M. C. McLaughlin</cp:lastModifiedBy>
  <dcterms:modified xsi:type="dcterms:W3CDTF">2005-04-22T22:03:15Z</dcterms:modified>
  <cp:revision>22</cp:revision>
  <dc:subject/>
  <dc:title>Lesson 7-1</dc:title>
</cp:coreProperties>
</file>